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D98-ADD1-4BA6-8726-AD34A2D4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AC5-8FBF-4C55-99EB-D11C41D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68C0B-842E-4B87-822C-A5C26659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1C239-B263-4879-BE57-D9598DD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4B064-A11D-4C1C-87A8-DCA0314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A408-848C-4B37-AED3-3CE051D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83857-5079-4173-84F7-5304906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8AEC0-E3CC-4967-BC45-56AFC08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B3B38-DF96-43EB-881F-4B130B9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E4F0D-3F5E-4C8D-B5D6-C6297AF3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5CADD-6959-4CEB-AD34-023F6FF1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46717-DCF3-486A-9479-8E9734BA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AD0-3EA5-4CBE-A4BF-50955629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EEF5B-2A8A-4D52-B310-13DEADAB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D3E4-D61E-4AD9-A234-82B8CADB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6B9FD-DAA5-48D7-8367-A0303655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7D189-06B4-4580-A2A2-AA82881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EE1FB-14E5-4B8D-B489-D5082E74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6B4FC-8320-4683-81C8-A528C3B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67865-1DC8-446F-A36B-4C51049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6C22B-B665-4C64-8ED6-6CD9684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9EDA5-4AD4-4EFA-8F2D-503BF48D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97B98-B608-48B6-AAE3-ACF161A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0EF-4039-4B37-945B-F9011072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A2D64-22BF-485D-9DD0-A71C749D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535F9-4206-4435-8F7F-68BED2E8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C1F49-6DF3-4476-A3F1-C986AD55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073C-D1D1-4F4E-953D-E984A06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370B-3561-4C83-9843-D97C1566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5AC28-C8F9-4D59-8531-E88227BC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DFE2B-BF20-456A-B5C8-551CDB8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D62BB-A904-4638-9BEE-5C001BF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E3751-3670-456F-A907-052E9EC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4C818-88D6-46A2-901F-257A1E5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85A-0C67-4E33-BE77-7050DE3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7F2CB-EB25-4900-98F4-979B7995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F3C17-5B3F-4EDE-9C04-E7CE4403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89741-C972-43C4-9DA9-9B6C44F0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4301B-1D7C-45C7-A508-F2110FA7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82383-A30B-4BC7-9815-1ADD347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15B54-3E87-46D3-8819-22051C7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294AB-F37D-4EE4-BCFD-C7FCB006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A9ACD-301C-4B5E-88BC-2E73ED23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53467-8075-48FD-BA50-0F9B1E9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97E41-2E1D-4075-9A77-C18BA4C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A6BE-51DA-4EF8-AB1B-089481C4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C5497-70F0-4AB9-BA39-0DD6FEA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48CE6-E117-42D3-9C06-95CA0CF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15D6B-F6F0-42D5-B226-7CB8CDD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8C85-F7E2-40B1-8AD5-7E566685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2EA1F-2B50-4D9B-BDD7-0E3FD498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92C-2FF7-463A-9CF4-32B29E1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9FF6-C10D-44E8-A3F3-32564F9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456E-6FC1-41A4-AFBD-5D23CA0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698D-9C21-4FE3-A24C-51FD0B5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CB6-A81A-4B4A-89C4-EB8B05FC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965-DA11-4929-9FFB-9BA4A7B5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5952-068C-42CA-91CD-1B1824C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CCA-8D69-49FB-8702-ABCCE12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6DEB-ED7F-4F09-A99A-25251A03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1DDD-94E0-4B93-B4CD-A9FD85B3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6DE4-A118-4588-A131-B6994413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D812-23A9-4352-8295-2FF22A9C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064B-8726-48A8-A3D1-3FE118F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C1D2-750A-4441-A52D-651C34F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16E2-A490-4D08-A7B0-E5BB73DF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544D-BCD5-48C0-8E5F-F0D7BCD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609-3F9C-4931-BFF5-E32E511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0965-74C2-4140-B6A3-C0F1E76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B790-E1E9-468B-9539-42209F4E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85DD-71A6-4C40-AEC8-1C90832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AC0D-9E68-4280-8B4B-9188F97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1E89-5168-40CE-AEC3-395CD210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518E-EB7D-44C3-8D9A-BC6A998E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E7AC-3EC0-4BAE-9258-F4F1E5D4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F0CCB-38CC-4C2B-B699-965094E7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B05C-DB0F-4AD3-87BB-8926DF89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9223-F162-41CD-8211-4C51CF31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ACA-B546-4C42-A0E5-3455797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6B60-EE71-4A7E-BAEE-EC8D4042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9FF4-AE96-44F2-855D-A9191608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0359-B108-48B1-85D7-DEE3440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C0B2-9E13-4838-9B6E-1D662CA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AF7D-B6F2-4BC4-997D-2109A20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CD4D-19C5-4391-AEFC-1EE54CA6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147A-81B5-4619-93E8-4466499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82FA-D15E-47FA-A2BF-F3A153D2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00BD-1233-465A-8B6E-20ED8945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D6C32-EFC3-425D-964C-79733C98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51C-162E-4D13-8CEB-B433F41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E67F-A472-42E5-A89E-41F5AF2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9A14-F74B-46C6-9340-0FF7FCAE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24C2-969B-45E3-A63E-9BAFA250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B688F-C802-49CF-AE13-920181EB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9853-8A60-44DC-AE95-AE621A39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E748-55DB-41B8-9920-8DFFE58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026A8-F3FF-4E7F-A5B0-A313E8E9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8CC2-AE1C-464A-8CB3-18B6CA53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CC82-6258-47C6-B9BE-3FF9072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04E8-D73F-4F5F-B98A-B4D6193B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2A4-A923-4B72-909C-08796D86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2F7E-4B5C-4440-ADB7-9FA98914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F21E-88DC-48B4-99C9-2923B7F4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7844-221B-4877-9FA4-8858C7C2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765F-ED64-4EEE-87D4-AE1847BB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76C4-E894-44F2-9012-77C39FCF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F31A-02AD-455D-82CA-3B4ACA32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59B5-E6ED-4D4F-9B5E-977583BC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EB09-B42B-4A5F-A727-A8D52E2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CC37-DBFB-40C3-8A7C-F99FB5C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CB583-E20D-4EA3-A409-AAF3A6D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8BC-D98D-4675-A388-46774A11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BA68-E44C-48C0-9874-BE5BEAB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573C-6DEF-4218-8D75-CD8679AF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AB57-0DB3-4AB8-B376-AA29DFC8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12F8-B94D-46A5-8964-25DD8B33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53A9-5C12-4FE1-98E5-5AEC7D6C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4B344-8637-47BC-9534-4BC79141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22D99-6B7E-4991-B685-32A94153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60C1-357D-4630-92C1-B277117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043D-0961-4CE9-A69F-B4CA201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E8C5-0C7D-4D68-9DB7-A0E11AC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9BD-56D1-4B18-9177-132B069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A1B9-2E10-45AF-8C5D-9DC7D24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3387-BE4F-4FDD-95BE-AC368ED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67E79-04FD-430B-BA23-C12D6A21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1122-9696-4E23-9FEA-FA23579D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B8ED-D766-47DD-8954-0097B049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698FC-5DDF-45B6-BD5B-E02C6E3F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46DF3-EA3D-4C6A-9187-71BA9525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3210-5195-4C2A-A16A-F1D192C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8912-370C-4EE1-A650-7D999AA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46A6-5951-4C1B-8B1B-9F9A552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609-F6E6-4C85-904F-7FCAB5A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3D20-341E-4C75-9D97-832EA8D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D9523-85AA-44F5-A608-37C40D2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3460-C4BF-4A09-B6E7-3DE69EC6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5B3B-C169-42C6-9138-8436EB7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521CE-82B3-4310-AC13-3AF22B3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3713E-841C-42E2-A10D-B48AE3F5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51B13-361F-485E-97A5-8416B7B1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258E6-248D-4889-B8B5-907AD080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A5880-ACF2-42B7-9FF6-9A26A07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3212E-5C1B-4D95-AC91-F87076EE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DF8DE-E6F3-4E0D-8009-FF4576CD14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C1FED-7FA9-444E-8F6F-4639B36B2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9AE9EB94-1A78-4298-B723-A39B8E63A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07CC9-F2DB-4785-A5C0-ED503E567F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3374D-AB31-47A6-AB6E-702CB8B6C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50417-BCD9-4907-A1CF-8DEF4F0531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90CCE-D3D6-4A77-BEAE-8CE1CBD47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B6C7D-FB2A-40B1-B505-167DE48F81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69D91-F3C9-4245-A7C8-1793CA48A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136C9-90AB-4DA0-8A3F-E2840A362C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C0E5B-7610-409C-8C11-69B664C74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05FDA-D6F1-42A7-B337-D4F4965953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E5C21-6EC1-441E-A807-46A1EE8F6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6E46D-135E-4FFF-A6AE-DBAE013E1F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74BB7-7D46-4E89-9626-90E2B75C5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A4783-5174-438D-9211-BA3B687841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CD6E8-3F5A-4554-A6C5-6D8CF7796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E6520-B538-4E10-A5F7-68EF694344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CF09B-85DF-4E3B-A3D7-DAC25B8EF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CEB35-24B3-4057-A373-715A403E38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270DF-EA69-46DC-8AE0-F14D87B7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F8ADA-4A43-488C-8817-0432979003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8188B-FD56-45B0-83BD-CA0031C5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5F09E-7A7E-4513-80BE-2A27534276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2D7E8-D312-4E87-827F-FF577010A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0665F-2922-4B11-9107-ECBAFD9D1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89F2C-64BB-4D69-832B-3CB2E0C01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4520F-E885-4532-8D9F-608053C05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888BB-3B6A-42BB-834E-B88DA30BA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2D442-336B-4DE6-8CD5-4C9257F64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F1916-39C8-438D-8098-58DE561F8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430F2-2C86-4388-8BB6-5CFE02646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8C9FC-3170-4970-B1F4-4105A12CE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A71DE-EAF1-410A-91AD-C7BE4A7CD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A9B51-6480-4B66-9364-752EF761D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5A5DA-BCCD-4E70-8166-C7C8B9653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3F7AA-B2F7-433C-9495-F94C94E23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3B5B9-C3F9-4B56-B1F6-01F693F35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7BE36-CC73-4159-90E7-F245A3FA4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52302-E5FE-42F0-942E-4A0440F1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C0166-F35D-47A0-BFCB-47DEE41AA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258FA-94DE-4051-8D1F-0EC485715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CA103-6689-4B8B-90C3-1C517B8C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B2A6B-0453-4ECD-A26C-C23E700DA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7E986-B11C-48CC-B0A4-999566D6F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81DB2-9F46-4784-A298-E891D3B42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323EA-1D90-4548-94EF-976F7812E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A74B6-294E-463F-AA95-3AFFFD9E6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EAD90-0FEA-4C23-B616-319742BF9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7232D-4BA4-4767-AAD9-380101E8B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C756E-D59C-45AF-9E8C-B3AF26BFF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71CEF-9F05-4B6D-B8A3-0A332E5F4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BF7AB-FFEC-4A4A-8B84-032463EAC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DFDD1-C7FC-4274-AA01-3C5B830E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94D5D-D088-445C-9CF8-B4A289F22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DE895-B5E7-4ED7-9199-DFA95642D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5B289-4BD3-49DE-8BBF-E32C9E4CB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71DE1-DCEB-4740-BA72-60A10091B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9:40:02Z</dcterms:modified>
  <cp:revision>74</cp:revision>
  <dc:subject/>
  <dc:title>Titulní strana – Titulek</dc:title>
</cp:coreProperties>
</file>